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F8E9-7194-4B87-8D0B-364844844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4D2B-9AEA-4B9F-892C-C2CB92462A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8EB4-8410-4776-83BD-9071F0478C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DEFEE-20E0-4FD9-8EDB-4B89616B9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761B-98A5-4499-8747-36AEDC772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40490-CCC8-4E07-94F7-FE60F5A2B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3DA86-6E46-4732-9521-2FB43D0D7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36A26-2DA6-4E3C-B6D8-6F51E647F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1F543-848B-4893-BFBF-43596A421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AA06F-7A45-469D-9505-39FB95E0F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BE71B-FBF2-4040-895D-41BA4ABB2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64A9C-9382-46C8-A5F7-441FFEB7A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DC3C0-876E-4220-83A6-5120002BF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E0C18-678B-4641-BE2F-0B89FDA02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0936B-E602-4C75-9184-3D7A73C4A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DF84C-EB8B-4A78-B983-D5D1DB442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110DE-F540-401C-9835-6EF8DFEC9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57727-807F-4B57-8947-1296750CA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003D9-B1B8-4B38-91F3-C3BAEEF1D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EA5FA-F6CA-435D-8357-F16478776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B9898-0CFD-4A42-B892-4CFAE5A1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D111-BD4B-4136-BBA5-C752ED4B1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DB3E5-EB1A-4228-AF3C-59087287E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F857-87D7-45EC-88A3-8AA94551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6FAA-63CD-4C90-B7DD-A841AE6C0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73D24-DFD3-458F-AD3C-B572FEE54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D092-9085-4255-84C4-A6A261B87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183D-D629-470C-B358-4BC534732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13EC-514E-4CCF-A22C-767B3AF0E8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y Innovation Creation ~       A Mosaic Clownfish</a:t>
            </a:r>
            <a:endParaRPr b="0" lang="en-US" sz="4400" spc="-1" strike="noStrike">
              <a:solidFill>
                <a:srgbClr val="ffcc66"/>
              </a:solidFill>
              <a:latin typeface="Arial"/>
            </a:endParaRPr>
          </a:p>
        </p:txBody>
      </p:sp>
      <p:pic>
        <p:nvPicPr>
          <p:cNvPr id="96" name="Picture 5" descr="DSC00154.JPG"/>
          <p:cNvPicPr/>
          <p:nvPr/>
        </p:nvPicPr>
        <p:blipFill>
          <a:blip r:embed="rId1"/>
          <a:stretch/>
        </p:blipFill>
        <p:spPr>
          <a:xfrm>
            <a:off x="2057400" y="2362320"/>
            <a:ext cx="5029200" cy="37717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ehavior</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 fish are very active fish and are extremely aggressive. Because they are quite active, the clownfish are thought to be “clowning aroun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ddition, the sea anemones are given better water circulation because the clownfish fan their fins while swimming about. </a:t>
            </a:r>
            <a:endParaRPr b="0" lang="en-US" sz="32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dators</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have a few ocean predators, such as sharks and stingrays, but their greatest threat is humans. People who catch clownfish and keep them as pets in aquariums with the wrong anemone. </a:t>
            </a:r>
            <a:endParaRPr b="0" lang="en-US" sz="32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awning season of the clownfish, a time when they breed, is year round in tropical waters.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s attract the females by courting. Courting behaviors include chasing, biting and extending fin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eding starts by the male chasing the female to the nest where the eggs are release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hundred to one thousand eggs are lai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lay their eggs in batches on coral, rock or next to the sea anemone that they call home.</a:t>
            </a:r>
            <a:endParaRPr b="0" lang="en-US" sz="3200" spc="-1" strike="noStrike">
              <a:solidFill>
                <a:srgbClr val="ffffff"/>
              </a:solidFill>
              <a:latin typeface="Times New Roman"/>
            </a:endParaRPr>
          </a:p>
        </p:txBody>
      </p:sp>
      <p:pic>
        <p:nvPicPr>
          <p:cNvPr id="127" name="Picture 10" descr="DSC00154.JPG"/>
          <p:cNvPicPr/>
          <p:nvPr/>
        </p:nvPicPr>
        <p:blipFill>
          <a:blip r:embed="rId1"/>
          <a:stretch/>
        </p:blipFill>
        <p:spPr>
          <a:xfrm>
            <a:off x="228600" y="0"/>
            <a:ext cx="2743200" cy="20574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le clownfish will build a nest near the anemone in order to be provided with protection from predators and guards the eggs until they hatch.</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ggs will hatch in 4-5 days.  </a:t>
            </a:r>
            <a:endParaRPr b="0" lang="en-US" sz="32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roup of clownfish there is a strict hierarchy of dominance. The largest and most aggressive female is at the top.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female clownfish is removed from the group, such as by death, one of  the largest and most dominant males would become a femal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st of the remaining males will then move up in rank. </a:t>
            </a:r>
            <a:endParaRPr b="0" lang="en-US" sz="28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captivity, the clownfish can live from 3-5 years. In the wild they live 6-10 yea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McLemore\Downloads\orange-clownfish-1366x768.jpg"/>
          <p:cNvPicPr/>
          <p:nvPr/>
        </p:nvPicPr>
        <p:blipFill>
          <a:blip r:embed="rId1"/>
          <a:stretch/>
        </p:blipFill>
        <p:spPr>
          <a:xfrm>
            <a:off x="-1933560" y="-228600"/>
            <a:ext cx="13011120" cy="73152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erences </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web.org</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kipedia.com</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free-download.com</a:t>
            </a:r>
            <a:endParaRPr b="0" lang="en-US" sz="32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ial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struction Pape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ciss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lu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per Plat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int Brush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9" name="Picture 5" descr="DSC00070.JPG"/>
          <p:cNvPicPr/>
          <p:nvPr/>
        </p:nvPicPr>
        <p:blipFill>
          <a:blip r:embed="rId1"/>
          <a:stretch/>
        </p:blipFill>
        <p:spPr>
          <a:xfrm>
            <a:off x="4419720" y="3200400"/>
            <a:ext cx="4267080" cy="32004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cess</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her suppli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rew my subject on a background of blue 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t circles and squares for the til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paper plate and paintbrush to glue tiles starting with my subject, then its surroundings </a:t>
            </a:r>
            <a:endParaRPr b="0" lang="en-US" sz="3200" spc="-1" strike="noStrike">
              <a:solidFill>
                <a:srgbClr val="ffffff"/>
              </a:solidFill>
              <a:latin typeface="Times New Roman"/>
            </a:endParaRPr>
          </a:p>
        </p:txBody>
      </p:sp>
      <p:pic>
        <p:nvPicPr>
          <p:cNvPr id="102" name="Picture 6" descr="DSC00070.JPG"/>
          <p:cNvPicPr/>
          <p:nvPr/>
        </p:nvPicPr>
        <p:blipFill>
          <a:blip r:embed="rId1"/>
          <a:stretch/>
        </p:blipFill>
        <p:spPr>
          <a:xfrm>
            <a:off x="5715000" y="0"/>
            <a:ext cx="3429000" cy="25718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 of the Clownfish</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earanc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bita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at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spa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5" name="Picture 21" descr="DSC00154.JPG"/>
          <p:cNvPicPr/>
          <p:nvPr/>
        </p:nvPicPr>
        <p:blipFill>
          <a:blip r:embed="rId1"/>
          <a:stretch/>
        </p:blipFill>
        <p:spPr>
          <a:xfrm>
            <a:off x="4419720" y="1981080"/>
            <a:ext cx="4114800" cy="30862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ppearance</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typically very bright, orange fish that have three white stripes, one at the head, middle and tail. The tips of their fins have a thin black rounded strip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grow to be from 2-5 inches long. The males tend to be significantly smaller than the females. However, there are various types of clownfish that range in colors from blue to yellow. </a:t>
            </a:r>
            <a:endParaRPr b="0" lang="en-US" sz="2800" spc="-1" strike="noStrike">
              <a:solidFill>
                <a:srgbClr val="ffffff"/>
              </a:solidFill>
              <a:latin typeface="Times New Roman"/>
            </a:endParaRPr>
          </a:p>
        </p:txBody>
      </p:sp>
      <p:pic>
        <p:nvPicPr>
          <p:cNvPr id="108" name="Picture 5" descr="DSC00096.JPG"/>
          <p:cNvPicPr/>
          <p:nvPr/>
        </p:nvPicPr>
        <p:blipFill>
          <a:blip r:embed="rId1"/>
          <a:stretch/>
        </p:blipFill>
        <p:spPr>
          <a:xfrm>
            <a:off x="0" y="0"/>
            <a:ext cx="2819520" cy="21146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salt water fish also called Anemone fish. They live in the warmer waters of the Pacific Ocean and Indian Ocean. They can also be found in Northwest Australia, Southeast Asia, Japan and the Indo Malaysian region.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can be found at the bottom of the sea in sheltered reefs or in shallow lagoons, usually in pairs. </a:t>
            </a:r>
            <a:endParaRPr b="0" lang="en-US" sz="2800" spc="-1" strike="noStrike">
              <a:solidFill>
                <a:srgbClr val="ffffff"/>
              </a:solidFill>
              <a:latin typeface="Times New Roman"/>
            </a:endParaRPr>
          </a:p>
        </p:txBody>
      </p:sp>
      <p:pic>
        <p:nvPicPr>
          <p:cNvPr id="111" name="Picture 5" descr="DSC00094.JPG"/>
          <p:cNvPicPr/>
          <p:nvPr/>
        </p:nvPicPr>
        <p:blipFill>
          <a:blip r:embed="rId1"/>
          <a:stretch/>
        </p:blipFill>
        <p:spPr>
          <a:xfrm>
            <a:off x="5943600" y="0"/>
            <a:ext cx="2286000" cy="1714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live in 10 out of more than 1,000 types of anemones. These anemones are the only ones that can host clownfish, and the clownfish are the only type of fish that do not get stung by the tentacles of the sea anemone, due to a slimy mucus covering that protects them. However, if this covering is wiped off of the fish, it will get stung and possibly be killed when it returns home to the anemone. The clownfish helps protect the anemone  by chasing away polyp eating fish. </a:t>
            </a:r>
            <a:endParaRPr b="0" lang="en-US" sz="2800" spc="-1" strike="noStrike">
              <a:solidFill>
                <a:srgbClr val="ffffff"/>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feed on small invertebrates which otherwise potentially could harm the sea anemone, and the fecal matter from the clownfish provides nutrients to the sea anemon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ownfish are omnivorouse: in the wild they eat live food such as algae, plankton, mollusks, and crustace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captivity they can survive on live food, fish flakes, and fish pellets.</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gae accounts for around 20 to 25 percent of its diet in the wild (and should also account for its amount of algae diet in captivity as well).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et of the clownfish also consists of copepods, mysids, isopods, zooplankton and undigested food from their host anemones. </a:t>
            </a:r>
            <a:endParaRPr b="0" lang="en-US" sz="2800" spc="-1" strike="noStrike">
              <a:solidFill>
                <a:srgbClr val="ffffff"/>
              </a:solidFill>
              <a:latin typeface="Times New Roman"/>
            </a:endParaRPr>
          </a:p>
        </p:txBody>
      </p:sp>
      <p:pic>
        <p:nvPicPr>
          <p:cNvPr id="118" name="Picture 5" descr="DSC00096.JPG"/>
          <p:cNvPicPr/>
          <p:nvPr/>
        </p:nvPicPr>
        <p:blipFill>
          <a:blip r:embed="rId1"/>
          <a:stretch/>
        </p:blipFill>
        <p:spPr>
          <a:xfrm>
            <a:off x="304920" y="0"/>
            <a:ext cx="2539800" cy="1905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2:32:53Z</dcterms:created>
  <dc:creator>McLemore</dc:creator>
  <dc:description/>
  <dc:language>en-US</dc:language>
  <cp:lastModifiedBy>FES TV</cp:lastModifiedBy>
  <dcterms:modified xsi:type="dcterms:W3CDTF">2012-01-20T16:32:00Z</dcterms:modified>
  <cp:revision>10</cp:revision>
  <dc:subject/>
  <dc:title>My Innovation Creation</dc:title>
</cp:coreProperties>
</file>